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6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512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612640" y="121932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3796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7512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612640" y="4522680"/>
            <a:ext cx="355896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37960" y="380520"/>
            <a:ext cx="11053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02200" y="452268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796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802200" y="1219320"/>
            <a:ext cx="539424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37960" y="4522680"/>
            <a:ext cx="11053800" cy="3016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5" descr="ECEO_Pos_MonoTest2"/>
          <p:cNvPicPr/>
          <p:nvPr/>
        </p:nvPicPr>
        <p:blipFill>
          <a:blip r:embed="rId2"/>
          <a:stretch/>
        </p:blipFill>
        <p:spPr>
          <a:xfrm rot="21169800">
            <a:off x="10896480" y="7973640"/>
            <a:ext cx="1397160" cy="1397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3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4" descr="DETearly368_Sml"/>
          <p:cNvPicPr/>
          <p:nvPr/>
        </p:nvPicPr>
        <p:blipFill>
          <a:blip r:embed="rId2"/>
          <a:stretch/>
        </p:blipFill>
        <p:spPr>
          <a:xfrm>
            <a:off x="92790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5" descr="ECEO_Pos_MonoTest2"/>
          <p:cNvPicPr/>
          <p:nvPr/>
        </p:nvPicPr>
        <p:blipFill>
          <a:blip r:embed="rId3"/>
          <a:stretch/>
        </p:blipFill>
        <p:spPr>
          <a:xfrm rot="21180600">
            <a:off x="10896120" y="7620120"/>
            <a:ext cx="1397160" cy="139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9" descr="DETearly722_Sml"/>
          <p:cNvPicPr/>
          <p:nvPr/>
        </p:nvPicPr>
        <p:blipFill>
          <a:blip r:embed="rId4"/>
          <a:stretch/>
        </p:blipFill>
        <p:spPr>
          <a:xfrm>
            <a:off x="44784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0" descr="DETearly805_Sml"/>
          <p:cNvPicPr/>
          <p:nvPr/>
        </p:nvPicPr>
        <p:blipFill>
          <a:blip r:embed="rId5"/>
          <a:stretch/>
        </p:blipFill>
        <p:spPr>
          <a:xfrm>
            <a:off x="6078600" y="7910640"/>
            <a:ext cx="1466640" cy="146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DETearly281_Sml"/>
          <p:cNvPicPr/>
          <p:nvPr/>
        </p:nvPicPr>
        <p:blipFill>
          <a:blip r:embed="rId6"/>
          <a:stretch/>
        </p:blipFill>
        <p:spPr>
          <a:xfrm>
            <a:off x="7678800" y="7910640"/>
            <a:ext cx="1465200" cy="1465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7"/>
          <a:stretch/>
        </p:blipFill>
        <p:spPr>
          <a:xfrm>
            <a:off x="1128600" y="8915400"/>
            <a:ext cx="2833920" cy="51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1" marL="1057320" indent="-406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2" marL="1625760" indent="-325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3" marL="2276640" indent="-325440">
              <a:spcBef>
                <a:spcPts val="825"/>
              </a:spcBef>
              <a:buClr>
                <a:srgbClr val="4b4b4b"/>
              </a:buClr>
              <a:buFont typeface="Arial"/>
              <a:buChar char="–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4" marL="2925720" indent="-325440">
              <a:spcBef>
                <a:spcPts val="825"/>
              </a:spcBef>
              <a:buClr>
                <a:srgbClr val="4b4b4b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5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lvl="6" marL="2925720" indent="-32544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eaching%20for%20Reading%20Strategies%20final.doc" TargetMode="External"/><Relationship Id="rId2" Type="http://schemas.openxmlformats.org/officeDocument/2006/relationships/hyperlink" Target="file:///Guided%20Reading%20Observations.doc" TargetMode="External"/><Relationship Id="rId3" Type="http://schemas.openxmlformats.org/officeDocument/2006/relationships/hyperlink" Target="file:///Guided%20Reading%20Observations.pdf" TargetMode="External"/><Relationship Id="rId4" Type="http://schemas.openxmlformats.org/officeDocument/2006/relationships/hyperlink" Target="file:///Progress%20Report%2034.pdf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166760" y="915840"/>
            <a:ext cx="106678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GUIDED READ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P-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166760" y="320184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ddon Mallee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  <p:sp>
        <p:nvSpPr>
          <p:cNvPr id="116" name="Right Arrow 2"/>
          <p:cNvSpPr/>
          <p:nvPr/>
        </p:nvSpPr>
        <p:spPr>
          <a:xfrm>
            <a:off x="1547640" y="3811680"/>
            <a:ext cx="2667240" cy="99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eft Arrow 3"/>
          <p:cNvSpPr/>
          <p:nvPr/>
        </p:nvSpPr>
        <p:spPr>
          <a:xfrm>
            <a:off x="8710560" y="3887640"/>
            <a:ext cx="2895480" cy="106704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How do we identify an instructional focus?</a:t>
            </a:r>
            <a:endParaRPr b="1" lang="en-US" sz="4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85880" y="144936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aching fo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aching for Reading Strategies final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uided Reading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uided Reading Observations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uided Reading Observation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demand: Adaptive Line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ogress Report 34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ding Response Jou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ther formative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dependent Reading Confer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 reading observations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1138320" y="380880"/>
            <a:ext cx="1105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</a:rPr>
              <a:t>Questioning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633240" y="1220760"/>
            <a:ext cx="58690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iteral Ques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there. The answer is clearly in the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Inferent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nd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 Knowledge + Text C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valuativ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own knowledge plus what the author has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499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0080" y="1144080"/>
            <a:ext cx="11052360" cy="1938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“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USTRALIA’S PRINCIPLE EXPORT IS NOW COAL.”</a:t>
            </a:r>
            <a:br>
              <a:rPr sz="4000"/>
            </a:b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1014480" y="3125880"/>
            <a:ext cx="259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ustralia’s main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main export is co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824360" y="47260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al our only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 has other expo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 has not always been our main ex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8786880" y="2744640"/>
            <a:ext cx="3832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ex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need to export to earn money from overseas. “Australia, the lucky country”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1830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Arial"/>
              </a:rPr>
              <a:t>How Do We Select Appropriate Text?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50880" y="2276640"/>
            <a:ext cx="1170288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instructional focus and knowledge of students i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needs to be appropriate to students’ learning needs, backgrounds, interests,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may have links to current top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ually a new text for students, but may be re-visited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xt at an appropriate level: no more than 5-10 difficulties in every 10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hoto of GR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UIDED READING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Modelled Session- SNOOK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What are the other students doing?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37960" y="1219320"/>
            <a:ext cx="11053800" cy="6324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independently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orking in groups on reading task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300" spc="-1" strike="noStrike">
                <a:solidFill>
                  <a:srgbClr val="4b4b4b"/>
                </a:solidFill>
                <a:latin typeface="Arial"/>
              </a:rPr>
              <a:t>Well planned activities that reinforce prior teaching focus, literacy strategies and awareness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300" spc="-1" strike="noStrike">
                <a:solidFill>
                  <a:srgbClr val="4b4b4b"/>
                </a:solidFill>
                <a:latin typeface="Arial"/>
              </a:rPr>
              <a:t>Reading Groups.mov</a:t>
            </a: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>
              <a:spcBef>
                <a:spcPts val="825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3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130400" y="1359000"/>
            <a:ext cx="109346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br>
              <a:rPr sz="6300"/>
            </a:br>
            <a:r>
              <a:rPr b="0" i="1" lang="en-US" sz="6300" spc="-1" strike="noStrike">
                <a:solidFill>
                  <a:srgbClr val="000000"/>
                </a:solidFill>
                <a:latin typeface="Arial"/>
              </a:rPr>
              <a:t>Does it look different across year levels?</a:t>
            </a:r>
            <a:br>
              <a:rPr sz="6300"/>
            </a:b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1 2.V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uided Reading Yr 7.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6720" y="6269040"/>
            <a:ext cx="11052360" cy="1938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AKING STOCK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6720" y="4134960"/>
            <a:ext cx="11052360" cy="2133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4b4b4b"/>
                </a:solidFill>
                <a:latin typeface="Arial"/>
              </a:rPr>
              <a:t>Guided Readng Evidence Tool.doc</a:t>
            </a:r>
            <a:endParaRPr b="0" lang="en-US" sz="2000" spc="-1" strike="noStrike">
              <a:solidFill>
                <a:srgbClr val="4b4b4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ference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66720" y="1395360"/>
            <a:ext cx="11703240" cy="75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Breakthrough  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ullan Hill and Crevo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Literacy Teaching and Learning in Victorian Schools </a:t>
            </a: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[Paper No 9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Teaching for Comprehending  and Fluency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Guided Reading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Fountas and Pinn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Effective Literacy Practice 1-4 and 5-8 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NZ Ministry of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800" spc="-1" strike="noStrike">
                <a:solidFill>
                  <a:srgbClr val="000000"/>
                </a:solidFill>
                <a:latin typeface="Arial"/>
              </a:rPr>
              <a:t>Victorian Essential Learning Standards      </a:t>
            </a: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DEEC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www.education.vic.gov.au/studentlearning</a:t>
            </a:r>
            <a:r>
              <a:rPr b="0" lang="en-AU" sz="23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AU" sz="2300" spc="-1" strike="noStrike" u="sng">
                <a:solidFill>
                  <a:srgbClr val="009999"/>
                </a:solidFill>
                <a:uFillTx/>
                <a:latin typeface="Arial"/>
              </a:rPr>
              <a:t>teachingresources/english/literacy/default.htm</a:t>
            </a:r>
            <a:r>
              <a:rPr b="0" lang="en-AU" sz="23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1"/>
          <p:cNvSpPr/>
          <p:nvPr/>
        </p:nvSpPr>
        <p:spPr>
          <a:xfrm>
            <a:off x="1138320" y="38088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LITERACY ELEM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100080" y="1677960"/>
            <a:ext cx="54496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Read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Read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Up-Down Arrow 4"/>
          <p:cNvSpPr/>
          <p:nvPr/>
        </p:nvSpPr>
        <p:spPr>
          <a:xfrm>
            <a:off x="5281560" y="1373040"/>
            <a:ext cx="2743200" cy="59436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ff0000">
              <a:alpha val="8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AKING &amp; 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3"/>
          <p:cNvSpPr/>
          <p:nvPr/>
        </p:nvSpPr>
        <p:spPr>
          <a:xfrm>
            <a:off x="7907400" y="1677960"/>
            <a:ext cx="5095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Write Alou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Shar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Guided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AU" sz="3700" spc="-1" strike="noStrike">
                <a:solidFill>
                  <a:srgbClr val="4b4b4b"/>
                </a:solidFill>
                <a:latin typeface="Arial"/>
              </a:rPr>
              <a:t>Independent Writ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924"/>
              </a:spcBef>
              <a:buClr>
                <a:srgbClr val="4b4b4b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37960" y="380520"/>
            <a:ext cx="11053800" cy="838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Resources</a:t>
            </a:r>
            <a:endParaRPr b="1" lang="en-US" sz="43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990720" y="2819520"/>
            <a:ext cx="110487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atching onto Comprehension- Pears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NAPLAN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IM resourc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10466280" y="6097680"/>
            <a:ext cx="574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C0B-1B41-46A1-8789-5E6D8D20A4C4}" type="slidenum">
              <a:rPr b="0" lang="en-A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61840" y="382680"/>
            <a:ext cx="112777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RADUAL RELEASE OF RESPONSIBILITY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9"/>
          <p:cNvSpPr/>
          <p:nvPr/>
        </p:nvSpPr>
        <p:spPr>
          <a:xfrm>
            <a:off x="2766960" y="2957400"/>
            <a:ext cx="1676520" cy="236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ODEL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demonstrates and explains the literacy focus being taught. This is achieved by thinking aloud the mental processes and modelling the reading, writing, speaking and list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2766960" y="5624640"/>
            <a:ext cx="1676520" cy="107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participates by actively attending to the demonstr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4"/>
          <p:cNvSpPr/>
          <p:nvPr/>
        </p:nvSpPr>
        <p:spPr>
          <a:xfrm>
            <a:off x="4976640" y="2957400"/>
            <a:ext cx="1676520" cy="180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continues to demonstrate the literacy focus, encouraging students to contribute ideas and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5"/>
          <p:cNvSpPr/>
          <p:nvPr/>
        </p:nvSpPr>
        <p:spPr>
          <a:xfrm>
            <a:off x="4976640" y="5243400"/>
            <a:ext cx="1676520" cy="1440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udents contribute ideas and begin to practise the use of the literacy focus in whole class sit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6"/>
          <p:cNvSpPr/>
          <p:nvPr/>
        </p:nvSpPr>
        <p:spPr>
          <a:xfrm>
            <a:off x="7262640" y="2957400"/>
            <a:ext cx="1676520" cy="144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UI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teacher provides scaffolds for students to use the literacy focus. Teacher provides feedba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7262640" y="4938840"/>
            <a:ext cx="1676520" cy="1800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udents work with help from the teacher and peers to practise the use of the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9"/>
          <p:cNvSpPr/>
          <p:nvPr/>
        </p:nvSpPr>
        <p:spPr>
          <a:xfrm>
            <a:off x="9548640" y="2957400"/>
            <a:ext cx="1676520" cy="1079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teacher offers support and encouragement when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9548640" y="4557600"/>
            <a:ext cx="1676520" cy="2159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tudent works independently to apply the use of literacy foc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1700280" y="2424240"/>
            <a:ext cx="8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1776240" y="6935760"/>
            <a:ext cx="88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le of the stu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9"/>
          <p:cNvSpPr/>
          <p:nvPr/>
        </p:nvSpPr>
        <p:spPr>
          <a:xfrm>
            <a:off x="8151840" y="6824520"/>
            <a:ext cx="34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000000"/>
                </a:solidFill>
                <a:latin typeface="Arial"/>
              </a:rPr>
              <a:t>Pearson &amp; Gallag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 rot="16200000">
            <a:off x="267120" y="4698720"/>
            <a:ext cx="374508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000000"/>
                </a:solidFill>
                <a:latin typeface="Arial"/>
              </a:rPr>
              <a:t>DEGREE OF 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938160" y="992160"/>
            <a:ext cx="11087280" cy="78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37960" y="1218960"/>
            <a:ext cx="11053800" cy="20588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Donut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or</a:t>
            </a:r>
            <a:br>
              <a:rPr sz="3600"/>
            </a:br>
            <a:r>
              <a:rPr b="0" lang="en-US" sz="3600" spc="-1" strike="noStrike">
                <a:solidFill>
                  <a:srgbClr val="4b4b4b"/>
                </a:solidFill>
                <a:latin typeface="Arial"/>
              </a:rPr>
              <a:t>Inside Outside Line</a:t>
            </a: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  <a:p>
            <a:pPr marL="487440" indent="-487440" algn="ctr">
              <a:spcBef>
                <a:spcPts val="9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1246320" y="4371840"/>
            <a:ext cx="10350360" cy="2449800"/>
          </a:xfrm>
          <a:prstGeom prst="roundRect">
            <a:avLst>
              <a:gd name="adj" fmla="val 15000"/>
            </a:avLst>
          </a:prstGeom>
          <a:solidFill>
            <a:srgbClr val="ff0000"/>
          </a:solidFill>
          <a:ln w="25560">
            <a:solidFill>
              <a:srgbClr val="a3d9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50760" tIns="65160" bIns="65160" anchor="ctr">
            <a:noAutofit/>
          </a:bodyPr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GUIDED READING? WHAT IS ITS PURPOS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le 4"/>
          <p:cNvSpPr/>
          <p:nvPr/>
        </p:nvSpPr>
        <p:spPr>
          <a:xfrm>
            <a:off x="1166760" y="458640"/>
            <a:ext cx="110538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Arial"/>
              </a:rPr>
              <a:t>GUIDED READING                  </a:t>
            </a:r>
            <a:r>
              <a:rPr b="1" lang="en-US" sz="4300" spc="-1" strike="noStrike">
                <a:solidFill>
                  <a:srgbClr val="a6a6a6"/>
                </a:solidFill>
                <a:latin typeface="Arial"/>
              </a:rPr>
              <a:t>Description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5"/>
          <p:cNvSpPr/>
          <p:nvPr/>
        </p:nvSpPr>
        <p:spPr>
          <a:xfrm>
            <a:off x="1090440" y="175428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e teacher and a small group of students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alk,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their way purposefully through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ommon text, working collabora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le 1"/>
          <p:cNvSpPr/>
          <p:nvPr/>
        </p:nvSpPr>
        <p:spPr>
          <a:xfrm>
            <a:off x="1014480" y="380880"/>
            <a:ext cx="1117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861840" y="1677960"/>
            <a:ext cx="110538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and regroup students using ongoing observation and assess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fully plan strategic reading instruction and explicitly teach small groups of stude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ect texts appropriate for the  common instructional needs of the gro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mote active engagement in thoughtful group discuss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000000"/>
                </a:solidFill>
                <a:latin typeface="Arial"/>
              </a:rPr>
              <a:t>Time scheduled daily - each group approx. 20 minu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Instruction (Continued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50880" y="1525680"/>
            <a:ext cx="11702880" cy="64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eacher prompts assist students to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age in text orientation and activate prior knowledge, connections and th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epen compreh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prediction skills and understanding of the reading and writing proce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other students to help solv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 ideas of the auth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 questions a reader asks whe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le 1"/>
          <p:cNvSpPr/>
          <p:nvPr/>
        </p:nvSpPr>
        <p:spPr>
          <a:xfrm>
            <a:off x="938160" y="382680"/>
            <a:ext cx="1117764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GUIDED READING </a:t>
            </a:r>
            <a:br>
              <a:rPr sz="43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assroom Indicators- Re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50880" y="2009880"/>
            <a:ext cx="11702880" cy="67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dequate variety of texts in multiple copies - a set of 6 copies and an additional copy for the teache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mall group organisation &amp; tasks are  clearly defined and visible e.g. management boa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2T01:30:08Z</dcterms:created>
  <dc:creator>Cato Purnell</dc:creator>
  <dc:description/>
  <dc:language>en-US</dc:language>
  <cp:lastModifiedBy>Kylie Lipscombe</cp:lastModifiedBy>
  <dcterms:modified xsi:type="dcterms:W3CDTF">2009-09-14T03:02:25Z</dcterms:modified>
  <cp:revision>48</cp:revision>
  <dc:subject/>
  <dc:title>PowerPoint Presentation</dc:title>
</cp:coreProperties>
</file>